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11268"/>
        <c:axId val="16390478"/>
      </c:barChart>
      <c:catAx>
        <c:axId val="64811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90478"/>
        <c:crosses val="autoZero"/>
        <c:auto val="1"/>
        <c:lblAlgn val="ctr"/>
        <c:lblOffset val="100"/>
        <c:noMultiLvlLbl val="0"/>
      </c:catAx>
      <c:valAx>
        <c:axId val="16390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11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2C3-7277-4BC7-8CD5-669EA13B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093-CC0D-4A06-A9D7-679E14D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078-73F2-4157-B0BB-C984045E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C1E-FBEC-4528-98FB-66A57CC8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61A-0459-44D8-B813-88E49D39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ACD-F7A9-474E-93CB-9733C62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95A-B535-4DFF-9CAB-0487402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5C9-B1D5-4FEC-9D13-CC64F46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025-BAE7-498D-A103-358CA126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FED-1D78-4815-8DB7-F90478D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5ED-E82E-46B9-A440-00C4055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C67-E9E7-488D-8C03-7A3BAEBD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FF589-FDC3-473E-8E3C-AE5C11502E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